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4DB-D606-4334-A7BD-A50666EC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057-0D41-453D-8899-41BFE6E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E29-C40E-4A7B-83CC-52C218D9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6E1-3031-4381-8EF0-4F35CC51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B1F-05FE-41B9-8099-70166AB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220-3A5F-47E5-B5ED-7E0B31B1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A45-F696-4FB0-A563-B3801ED8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B83-BED4-45DF-AB4E-EE8D7B1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A0D-BAD5-4003-BDA0-32E4733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C76-99E3-405E-B3B8-192E2A8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0D0-BF58-428D-84D8-4ED6373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AD4-571D-44D0-9C4B-48FA041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FD5-2E18-4AB1-8B0C-44742BCB9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07470/student_view0/chapter3/animation__mrna_synthesis__transcription___quiz_1_.html" TargetMode="External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1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xeculink.com/~ekimmel/mrna_flash.htm" TargetMode="External"/><Relationship Id="rId2" Type="http://schemas.openxmlformats.org/officeDocument/2006/relationships/hyperlink" Target="http://www.execulink.com/~ekimmel/mrna_flash.htm" TargetMode="External"/><Relationship Id="rId3" Type="http://schemas.openxmlformats.org/officeDocument/2006/relationships/hyperlink" Target="http://www.execulink.com/~ekimmel/mrna_flash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ow animation of tran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-class.unl.edu/biochem/gp2/m_biology/animation/gene/gene_a2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2/120200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ll need to undergo three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’ Ca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is added to the start of the primary transcript to prevent digestion in the cytoplasm.  This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’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-A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’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-A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karyotic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 the introns out of the primary transcript and rejoin the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f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culink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/~ekimmel/mrna_flas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side the start of a gene (upstream of the g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adenine and thymine (easier to break H-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mage from: http://dna-rna.net/2011/08/24/rna-transcriptio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 by adding ribonucleotides from 5’ to 3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used as a template for making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not used for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NA polymerase reach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or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cription stops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73400"/>
            <a:ext cx="7772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1-11-15T18:32:12Z</dcterms:modified>
  <cp:revision>71</cp:revision>
  <dc:subject/>
  <dc:title>Molecular Genetics</dc:title>
</cp:coreProperties>
</file>